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96504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95200" y="69228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31680" y="4379400"/>
            <a:ext cx="5133960" cy="4224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36200"/>
            <a:ext cx="3032280" cy="46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965040" y="8836200"/>
            <a:ext cx="3032280" cy="46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D393B3-54C7-43C5-92B5-AB9AC9554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65400" y="8836200"/>
            <a:ext cx="30322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2ACD15-5435-4051-A571-4C16A5BD5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92320" y="69372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3480" y="4392360"/>
            <a:ext cx="513072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090-758A-4E0A-BF78-DB897E1A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4391-9CF2-4C98-AEE8-E1C5ED6B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0FC0-896E-472A-9813-0AE54ED8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EFA-C4F1-4C9E-A073-B8E3F9F5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EB42-97D2-4BEA-9B0B-61E6D986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-216000" y="19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5E5-6247-4DA6-91DD-0015C657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F3F-5A3B-48B2-9C0B-4A66881C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446-9588-488A-BEE0-A602F0DD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81B4-765D-4F92-B1B4-4792D485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A6D-689D-4305-8084-CB00A5C6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305-FA37-48C5-923F-E8E460FB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9EF6-5BAD-494C-B42D-8EA308A6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-216000" y="19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143000"/>
            <a:ext cx="9144000" cy="936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362640"/>
            <a:ext cx="9144000" cy="79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72960" y="1652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42920" y="19368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7232760" y="263520"/>
            <a:ext cx="1715760" cy="390240"/>
            <a:chOff x="7232760" y="263520"/>
            <a:chExt cx="1715760" cy="390240"/>
          </a:xfrm>
        </p:grpSpPr>
        <p:sp>
          <p:nvSpPr>
            <p:cNvPr id="7" name="Freeform 9"/>
            <p:cNvSpPr/>
            <p:nvPr/>
          </p:nvSpPr>
          <p:spPr>
            <a:xfrm>
              <a:off x="7701120" y="360360"/>
              <a:ext cx="179280" cy="22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772840" y="371160"/>
              <a:ext cx="8064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836200" y="371160"/>
              <a:ext cx="11232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207640" y="371160"/>
              <a:ext cx="23508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031240" y="360360"/>
              <a:ext cx="179280" cy="22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8418600" y="360360"/>
              <a:ext cx="179280" cy="22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884000" y="371160"/>
              <a:ext cx="16632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601120" y="371160"/>
              <a:ext cx="16488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232760" y="371160"/>
              <a:ext cx="495000" cy="282600"/>
            </a:xfrm>
            <a:prstGeom prst="pie">
              <a:avLst/>
            </a:prstGeom>
            <a:solidFill>
              <a:srgbClr val="fd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7512120" y="263520"/>
              <a:ext cx="69480" cy="90000"/>
            </a:xfrm>
            <a:prstGeom prst="pie">
              <a:avLst/>
            </a:prstGeom>
            <a:solidFill>
              <a:srgbClr val="fd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13200" y="627120"/>
              <a:ext cx="23760" cy="2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Text Box 20"/>
          <p:cNvSpPr/>
          <p:nvPr/>
        </p:nvSpPr>
        <p:spPr>
          <a:xfrm>
            <a:off x="7145280" y="689040"/>
            <a:ext cx="189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</a:rPr>
              <a:t>Aramark Uniform and Career Appar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22"/>
          <p:cNvSpPr/>
          <p:nvPr/>
        </p:nvSpPr>
        <p:spPr>
          <a:xfrm>
            <a:off x="8630280" y="61722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1ABE-0CF4-4DE3-BEBA-06E3035502A9}" type="slidenum">
              <a:rPr b="0" lang="en-US" sz="9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5"/>
          <p:cNvGrpSpPr/>
          <p:nvPr/>
        </p:nvGrpSpPr>
        <p:grpSpPr>
          <a:xfrm>
            <a:off x="-202680" y="0"/>
            <a:ext cx="9346680" cy="1523520"/>
            <a:chOff x="-202680" y="0"/>
            <a:chExt cx="9346680" cy="1523520"/>
          </a:xfrm>
        </p:grpSpPr>
        <p:pic>
          <p:nvPicPr>
            <p:cNvPr id="57" name="Picture 6" descr="cool2"/>
            <p:cNvPicPr/>
            <p:nvPr/>
          </p:nvPicPr>
          <p:blipFill>
            <a:blip r:embed="rId2"/>
            <a:stretch/>
          </p:blipFill>
          <p:spPr>
            <a:xfrm rot="5400000">
              <a:off x="3708720" y="-3911400"/>
              <a:ext cx="1523520" cy="93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Line 7"/>
            <p:cNvSpPr/>
            <p:nvPr/>
          </p:nvSpPr>
          <p:spPr>
            <a:xfrm flipH="1">
              <a:off x="-202680" y="1523520"/>
              <a:ext cx="934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EEA8-3D63-499A-8F43-1D67830CA9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873920" y="4446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ngravers MT"/>
              </a:rPr>
              <a:t>1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8024040" y="40644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valdi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7696080" y="165240"/>
            <a:ext cx="1244880" cy="124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2"/>
          <p:cNvSpPr/>
          <p:nvPr/>
        </p:nvSpPr>
        <p:spPr>
          <a:xfrm>
            <a:off x="1392120" y="0"/>
            <a:ext cx="7751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"/>
          <p:cNvSpPr/>
          <p:nvPr/>
        </p:nvSpPr>
        <p:spPr>
          <a:xfrm>
            <a:off x="2514600" y="4000680"/>
            <a:ext cx="575316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636560" y="469800"/>
            <a:ext cx="7329600" cy="80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One to One Laptop 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Rye Junior High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Rye, 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School Board Brief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June 11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Sheila Adams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sadams@sau50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Chris Pollet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cpollet@sau50.or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Chris Lingamfelter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clingamfelter@manh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Tim Moynahan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tmoynahan@sau50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Mike Schwartz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michaelschwartz@usa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Suzanne Vogt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sumarc@comcas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0" y="0"/>
            <a:ext cx="1371600" cy="6858000"/>
            <a:chOff x="0" y="0"/>
            <a:chExt cx="1371600" cy="6858000"/>
          </a:xfrm>
        </p:grpSpPr>
        <p:pic>
          <p:nvPicPr>
            <p:cNvPr id="114" name="Picture 6" descr="cool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Line 7"/>
            <p:cNvSpPr/>
            <p:nvPr/>
          </p:nvSpPr>
          <p:spPr>
            <a:xfrm>
              <a:off x="1371600" y="0"/>
              <a:ext cx="0" cy="68580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24"/>
          <p:cNvSpPr/>
          <p:nvPr/>
        </p:nvSpPr>
        <p:spPr>
          <a:xfrm>
            <a:off x="215640" y="584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ngravers MT"/>
              </a:rPr>
              <a:t>1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5"/>
          <p:cNvSpPr/>
          <p:nvPr/>
        </p:nvSpPr>
        <p:spPr>
          <a:xfrm>
            <a:off x="349920" y="54612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valdi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6"/>
          <p:cNvSpPr/>
          <p:nvPr/>
        </p:nvSpPr>
        <p:spPr>
          <a:xfrm>
            <a:off x="38160" y="304920"/>
            <a:ext cx="1244520" cy="124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History of Laptop Initi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ubtitle 2"/>
          <p:cNvSpPr/>
          <p:nvPr/>
        </p:nvSpPr>
        <p:spPr>
          <a:xfrm>
            <a:off x="360360" y="1676520"/>
            <a:ext cx="857268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Inspired by Maine Laptop 7th Grad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tudents and Parents feel Technology Weak at RJ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tarted December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olicited parent and teacher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ugmented with staff and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onducted Research: web and in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ttended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hone Intervie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tt Woodrow, Armand R. Dupont School in Allenstown, NH This is one of the Governor Benson Laptop Schools.  This is a very strong program and our notes are atta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Linda Volt, Paul Elementary School in Sanbornville, NH This is one of the Governor Benson Laptop Schools.  This is a struggling program and we learned a lot from their misste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One to One Vision</a:t>
            </a:r>
            <a:br>
              <a:rPr sz="4400"/>
            </a:b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Enhance Student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43080" y="1600200"/>
            <a:ext cx="857232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Higher Order of Thinking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Maximize Student Pot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Extension of Lesson / School D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New Teaching Methods / Teachers as Facilit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Extending Collab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Writing (Draft/Redraft, Grammar) and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Reading Comprehension Can be Impro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Mathematic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Science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Social Studies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Technology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Follow the Child Indic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Life Long Leadership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8155080" y="352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gnet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ay in the life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day night pa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ng with pe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 to tools and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day morning Math – graphing t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Studies – primary source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 Class – portfolio reflection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4160" y="1599840"/>
            <a:ext cx="863568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tudents are more engaged in this type of learning… more excited about the curricul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uccessful programs focus on teacher adoption and curriculum integration (professional developmen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Need for both technology and curriculum integ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Hardware is only one compon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Challenges: technical aspects of support, infrastructure, and network capa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Initially, there are usually a number of unplanned costs, but that tapered off as they progres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93840" y="1695600"/>
            <a:ext cx="10756800" cy="6723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1867680" y="398520"/>
            <a:ext cx="536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rjhone.wikispaces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0680" y="1871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Determine what a RJH One-to-One would look lik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Develop budget proposal for ‘09-10 school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Refine professional development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Recommend roll-out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Board Reaction / Sugg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3:54:32Z</dcterms:created>
  <dc:creator>Dan Avila</dc:creator>
  <dc:description/>
  <dc:language>en-US</dc:language>
  <cp:lastModifiedBy>cpollet</cp:lastModifiedBy>
  <cp:lastPrinted>2008-05-29T13:58:27Z</cp:lastPrinted>
  <dcterms:modified xsi:type="dcterms:W3CDTF">2008-06-11T21:46:44Z</dcterms:modified>
  <cp:revision>1147</cp:revision>
  <dc:subject>WCDC Final Briefing Packet</dc:subject>
  <dc:title>No Slide Title</dc:title>
</cp:coreProperties>
</file>